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574-78E4-4924-832D-ECBBC476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A5D-0979-4C2A-AFD4-48F1975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A25-FF7E-4D35-8F22-EBE25D8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098-D303-444E-947E-A7FA7635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269D-A9BD-4021-ACEB-0258134F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EFE6-EA58-490A-B01D-2901DD5E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1CFD-9A7B-4BF7-8C84-AF7C9DDC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FCC8-4CF8-498E-B69D-C7DB05C1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4481-8DF1-462E-9F87-D904EB8B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9D1D-C595-4D36-B4D1-9D9F2C70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94AD-7034-417A-886B-2B72655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8C3-0613-431D-AC7D-D607B5A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8389-F794-48BB-9BD9-30375E1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745E-9C0E-42BC-A321-22393011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2313-A392-435A-84B3-34E85166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32C7-7C2F-4F34-9453-7B0B4CF1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8419-0F44-4582-AF25-88CC4C40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75E-3633-46B7-BEAE-4D337584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057-5146-4F87-9191-DEF95F3E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DDE-E9F3-4ED4-83BD-E6E6F8A4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D0E-DBB4-4A55-ACBF-0B519784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8E3-65C6-453F-9E5E-49A52BA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43D-7219-46C4-8706-3923D12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09E-261A-44C0-81C3-ACA3845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30E1-F87A-49BA-BC62-BB4838821C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E95B-2E87-4BAF-AD74-E64948A82E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9120" y="820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we must defi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392120" y="3200400"/>
                <a:ext cx="6891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066680" y="4343400"/>
            <a:ext cx="7467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the probability of being in st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making a transition to st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ime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given the observation sequenc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model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we calculate thi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7488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50880" y="6099120"/>
                <a:ext cx="6889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794520" y="2460600"/>
            <a:ext cx="8092440" cy="3736080"/>
            <a:chOff x="794520" y="2460600"/>
            <a:chExt cx="8092440" cy="3736080"/>
          </a:xfrm>
        </p:grpSpPr>
        <p:sp>
          <p:nvSpPr>
            <p:cNvPr id="147" name=""/>
            <p:cNvSpPr/>
            <p:nvPr/>
          </p:nvSpPr>
          <p:spPr>
            <a:xfrm>
              <a:off x="8262720" y="573696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794520" y="2460600"/>
              <a:ext cx="7824240" cy="3660120"/>
              <a:chOff x="794520" y="2460600"/>
              <a:chExt cx="7824240" cy="3660120"/>
            </a:xfrm>
          </p:grpSpPr>
          <p:sp>
            <p:nvSpPr>
              <p:cNvPr id="149" name=""/>
              <p:cNvSpPr/>
              <p:nvPr/>
            </p:nvSpPr>
            <p:spPr>
              <a:xfrm>
                <a:off x="1098720" y="398448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17880" y="253656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94400" y="253656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5975280" y="2536560"/>
                <a:ext cx="2514600" cy="2743200"/>
                <a:chOff x="5975280" y="2536560"/>
                <a:chExt cx="2514600" cy="2743200"/>
              </a:xfrm>
            </p:grpSpPr>
            <p:sp>
              <p:nvSpPr>
                <p:cNvPr id="153" name=""/>
                <p:cNvSpPr/>
                <p:nvPr/>
              </p:nvSpPr>
              <p:spPr>
                <a:xfrm flipV="1">
                  <a:off x="5975280" y="253656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5975280" y="322200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975280" y="398448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75280" y="390816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H="1" flipV="1">
                <a:off x="1098360" y="253656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1098360" y="322200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098360" y="398448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460680" y="390816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98720" y="428940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3920" y="428940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21680" y="24606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1021680" y="31464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021680" y="39081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982080" y="526392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413200" y="24606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8413200" y="31464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8413200" y="39081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8466120" y="52560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155760" y="550836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23000" y="550836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84720" y="337500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94400" y="337500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4520" y="566100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38080" y="56610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48120" y="566100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67120" y="398448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81680" y="499248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35520" y="495756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7120" y="7488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2378160"/>
            <a:ext cx="3048120" cy="39621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894120" y="6107040"/>
                <a:ext cx="33544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824760" y="2530440"/>
            <a:ext cx="8092440" cy="3736080"/>
            <a:chOff x="824760" y="2530440"/>
            <a:chExt cx="8092440" cy="3736080"/>
          </a:xfrm>
        </p:grpSpPr>
        <p:sp>
          <p:nvSpPr>
            <p:cNvPr id="185" name=""/>
            <p:cNvSpPr/>
            <p:nvPr/>
          </p:nvSpPr>
          <p:spPr>
            <a:xfrm>
              <a:off x="8292960" y="580680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824760" y="2530440"/>
              <a:ext cx="7824240" cy="3660120"/>
              <a:chOff x="824760" y="2530440"/>
              <a:chExt cx="7824240" cy="3660120"/>
            </a:xfrm>
          </p:grpSpPr>
          <p:sp>
            <p:nvSpPr>
              <p:cNvPr id="187" name=""/>
              <p:cNvSpPr/>
              <p:nvPr/>
            </p:nvSpPr>
            <p:spPr>
              <a:xfrm>
                <a:off x="1128960" y="405432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48120" y="26064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24640" y="26064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6005520" y="2606400"/>
                <a:ext cx="2514600" cy="2743200"/>
                <a:chOff x="6005520" y="2606400"/>
                <a:chExt cx="2514600" cy="274320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6005520" y="260640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6005520" y="329184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005520" y="405432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005520" y="397800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flipH="1" flipV="1">
                <a:off x="1128600" y="260640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128600" y="329184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128600" y="405432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3490920" y="39780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28960" y="43592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44160" y="43592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051920" y="25304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051920" y="32162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051920" y="39780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012320" y="53337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8443440" y="25304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8443440" y="32162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8443440" y="39780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496360" y="532584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3186000" y="55782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53240" y="55782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4960" y="344484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24640" y="344484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4760" y="573084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68320" y="57308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78360" y="57308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97360" y="405432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11920" y="506232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65760" y="502740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76840" y="2363760"/>
            <a:ext cx="1676160" cy="3809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31520" y="81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117880" y="6126120"/>
                <a:ext cx="5476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753120" y="2516040"/>
            <a:ext cx="8092440" cy="3736080"/>
            <a:chOff x="753120" y="2516040"/>
            <a:chExt cx="8092440" cy="3736080"/>
          </a:xfrm>
        </p:grpSpPr>
        <p:sp>
          <p:nvSpPr>
            <p:cNvPr id="223" name=""/>
            <p:cNvSpPr/>
            <p:nvPr/>
          </p:nvSpPr>
          <p:spPr>
            <a:xfrm>
              <a:off x="8221320" y="579240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53120" y="2516040"/>
              <a:ext cx="7824240" cy="3660120"/>
              <a:chOff x="753120" y="2516040"/>
              <a:chExt cx="7824240" cy="3660120"/>
            </a:xfrm>
          </p:grpSpPr>
          <p:sp>
            <p:nvSpPr>
              <p:cNvPr id="225" name=""/>
              <p:cNvSpPr/>
              <p:nvPr/>
            </p:nvSpPr>
            <p:spPr>
              <a:xfrm>
                <a:off x="1057320" y="403992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76480" y="2592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553000" y="2592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933880" y="2592000"/>
                <a:ext cx="2514600" cy="2743200"/>
                <a:chOff x="5933880" y="2592000"/>
                <a:chExt cx="2514600" cy="274320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5933880" y="259200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933880" y="327744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3880" y="403992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33880" y="396360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 flipH="1" flipV="1">
                <a:off x="1056960" y="259200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056960" y="327744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056960" y="403992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3419280" y="39636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57320" y="4344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72520" y="4344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980280" y="2516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980280" y="3201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980280" y="3963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940680" y="53193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8371800" y="2516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371800" y="3201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8371800" y="3963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8424720" y="531144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114360" y="5563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81600" y="5563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43320" y="343044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53000" y="343044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3120" y="571644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96680" y="57164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06720" y="57164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25720" y="403992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40280" y="504792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94120" y="501300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567400" y="2336760"/>
            <a:ext cx="3276720" cy="396252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9960" y="80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7520" y="2489040"/>
            <a:ext cx="8092440" cy="3736080"/>
            <a:chOff x="767520" y="2489040"/>
            <a:chExt cx="8092440" cy="3736080"/>
          </a:xfrm>
        </p:grpSpPr>
        <p:sp>
          <p:nvSpPr>
            <p:cNvPr id="260" name=""/>
            <p:cNvSpPr/>
            <p:nvPr/>
          </p:nvSpPr>
          <p:spPr>
            <a:xfrm>
              <a:off x="8235720" y="576540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767520" y="2489040"/>
              <a:ext cx="7824240" cy="3660120"/>
              <a:chOff x="767520" y="2489040"/>
              <a:chExt cx="7824240" cy="3660120"/>
            </a:xfrm>
          </p:grpSpPr>
          <p:sp>
            <p:nvSpPr>
              <p:cNvPr id="262" name=""/>
              <p:cNvSpPr/>
              <p:nvPr/>
            </p:nvSpPr>
            <p:spPr>
              <a:xfrm>
                <a:off x="1071720" y="401292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90880" y="2565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7400" y="2565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5948280" y="2565000"/>
                <a:ext cx="2514600" cy="2743200"/>
                <a:chOff x="5948280" y="2565000"/>
                <a:chExt cx="2514600" cy="2743200"/>
              </a:xfrm>
            </p:grpSpPr>
            <p:sp>
              <p:nvSpPr>
                <p:cNvPr id="266" name=""/>
                <p:cNvSpPr/>
                <p:nvPr/>
              </p:nvSpPr>
              <p:spPr>
                <a:xfrm flipV="1">
                  <a:off x="5948280" y="256500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948280" y="325044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48280" y="401292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948280" y="393660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 flipH="1" flipV="1">
                <a:off x="1071360" y="256500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071360" y="325044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1071360" y="401292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433680" y="39366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1720" y="4317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86920" y="4317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994680" y="2489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994680" y="3174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994680" y="3936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955080" y="52923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8386200" y="2489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8386200" y="3174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386200" y="3936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8439120" y="528444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128760" y="5536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96000" y="5536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57720" y="340344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67400" y="340344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7520" y="568944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11080" y="56894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1120" y="56894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40120" y="401292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54680" y="502092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08520" y="498600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15920" y="6195960"/>
                <a:ext cx="4575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47360" y="750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0840" y="508320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probability that a path terminates in stat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t tim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probability of the local transition stat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probability of the path being in stat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+1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nd then being unconstrained until the end of the sequ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39720" y="2397240"/>
                <a:ext cx="6891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179800" y="3373560"/>
                <a:ext cx="525600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32960" y="80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tting it all together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7440" y="519444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(i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the probability of being in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It is calculated as the sum of all the transitions </a:t>
            </a:r>
            <a:r>
              <a:rPr b="0" i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(i,j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at constitute a transition from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o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.e. the number of transitions made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tim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This is not quite the same concept as forward evaluation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2400" y="2360520"/>
                <a:ext cx="675792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657520" y="3660840"/>
                <a:ext cx="395604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01360" y="834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proced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2160" y="2359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mmary of procedu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random (subject to probability constraints, of course 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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re-estimation formulae (next slides) to calculate       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|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 -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| &lt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N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S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44200" y="791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200" y="4524120"/>
            <a:ext cx="800100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vially,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probability of being in st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957320" y="2792520"/>
            <a:ext cx="5562720" cy="1014480"/>
            <a:chOff x="1957320" y="2792520"/>
            <a:chExt cx="5562720" cy="1014480"/>
          </a:xfrm>
        </p:grpSpPr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957320" y="2792520"/>
                  <a:ext cx="27432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5462640" y="3021120"/>
                  <a:ext cx="20574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i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32960" y="820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0560" y="52718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i,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ratio of the expected number of transitions from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the expected number of transitions out of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889360" y="2376360"/>
                <a:ext cx="320040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the parameters for a discrete valued Hidden Markov Mode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class &amp; Cours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7360" y="779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19160" y="52020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k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ratio of the expected number of times of being in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observing symbol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vided by the expected number of states of being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608200" y="2266920"/>
                <a:ext cx="368136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ing the HMM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best fits the dat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olves an iterative process that either improves on the previous iteration or has converg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a model 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A,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with chosen complexity in terms of # of hidden states together with the forward and backwards evaluation trelli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calculate state transition probabilities given the current model, then re-estimate parameters to get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actical issues in computing the re-estimation formu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oosing the number of hidden node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tive modelling and stochastic samp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will need to understand these issues to deal with coursework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ence: “An Introduction to Hidden Markov Models”, L. R. Rabiner &amp; B. H. Juang, IEEE ASSP Magazine, January 1986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ing in continuous valued HM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H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4040" y="271764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about temporal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ethod that you can use as a basis for our model of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is lecture we shall see how we can learn the HMM model parameters for a task from training observation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480" y="890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: 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7840" y="25560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ctor is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vector that specifies the probability of being in a particular hidden state at tim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=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State Transition Matrix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Confusion Matrix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 for discrete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observation sequence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| ve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rative models for computer vision</a:t>
            </a: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mple case study: Using a Hidden Markov Model (HMM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seq1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7400" y="33526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3526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3526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1911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5146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50532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505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1828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9528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6760" y="5486400"/>
            <a:ext cx="43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ining sequ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{3,3,2,2,2,2,5,5,4,4,3,3,1,1,1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1480" y="890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for a simple visual task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Using a chain cod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seq1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9718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990720" y="2666880"/>
            <a:ext cx="3809880" cy="3733920"/>
            <a:chOff x="990720" y="2666880"/>
            <a:chExt cx="3809880" cy="3733920"/>
          </a:xfrm>
        </p:grpSpPr>
        <p:sp>
          <p:nvSpPr>
            <p:cNvPr id="116" name=""/>
            <p:cNvSpPr/>
            <p:nvPr/>
          </p:nvSpPr>
          <p:spPr>
            <a:xfrm>
              <a:off x="2514600" y="419112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6520" y="419112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52680" y="419112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14600" y="502920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33526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4343400"/>
              <a:ext cx="533160" cy="380880"/>
            </a:xfrm>
            <a:prstGeom prst="leftArrow">
              <a:avLst>
                <a:gd name="adj1" fmla="val 50000"/>
                <a:gd name="adj2" fmla="val 34995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434340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2666880"/>
              <a:ext cx="381240" cy="533520"/>
            </a:xfrm>
            <a:prstGeom prst="upArrow">
              <a:avLst>
                <a:gd name="adj1" fmla="val 50000"/>
                <a:gd name="adj2" fmla="val 34986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579132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413960" y="5799240"/>
            <a:ext cx="43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bservation sequ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{3,3,2,2,2,2,5,5,4,4,3,3,1,1,1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um Welch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ype of Expectation Maximisation (EM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with random parameters for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y iteration of BW learning to defin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ither defines a critical point of the likelihood function, in which ca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in the sense that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 &gt;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.e. we have found another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which the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to be p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4360" y="81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39800" y="23464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, we need to set out some more precise mathematical notation and term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it of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iven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ikelihood fun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[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… 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idden states (we choose this value ourselv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ymbols in the observation sequ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the forwards evaluation trellis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the backwards evaluation trellis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971800"/>
            <a:ext cx="3909960" cy="520560"/>
            <a:chOff x="2743200" y="2971800"/>
            <a:chExt cx="3909960" cy="520560"/>
          </a:xfrm>
        </p:grpSpPr>
        <p:sp>
          <p:nvSpPr>
            <p:cNvPr id="132" name=""/>
            <p:cNvSpPr/>
            <p:nvPr/>
          </p:nvSpPr>
          <p:spPr>
            <a:xfrm>
              <a:off x="2743200" y="2971800"/>
              <a:ext cx="375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=     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3986280" y="3002040"/>
                  <a:ext cx="2666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1066680" y="3657600"/>
            <a:ext cx="4343400" cy="1850760"/>
            <a:chOff x="1066680" y="3657600"/>
            <a:chExt cx="4343400" cy="1850760"/>
          </a:xfrm>
        </p:grpSpPr>
        <p:sp>
          <p:nvSpPr>
            <p:cNvPr id="135" name=""/>
            <p:cNvSpPr/>
            <p:nvPr/>
          </p:nvSpPr>
          <p:spPr>
            <a:xfrm>
              <a:off x="1066680" y="365760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904760" y="3733560"/>
                  <a:ext cx="2664000" cy="17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  <m:e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"/>
          <p:cNvGrpSpPr/>
          <p:nvPr/>
        </p:nvGrpSpPr>
        <p:grpSpPr>
          <a:xfrm>
            <a:off x="4800600" y="3733920"/>
            <a:ext cx="4343400" cy="1850760"/>
            <a:chOff x="4800600" y="3733920"/>
            <a:chExt cx="4343400" cy="1850760"/>
          </a:xfrm>
        </p:grpSpPr>
        <p:sp>
          <p:nvSpPr>
            <p:cNvPr id="138" name=""/>
            <p:cNvSpPr/>
            <p:nvPr/>
          </p:nvSpPr>
          <p:spPr>
            <a:xfrm>
              <a:off x="4800600" y="373392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638680" y="3809880"/>
                  <a:ext cx="2951280" cy="17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  <m:e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23:24Z</dcterms:modified>
  <cp:revision>51</cp:revision>
  <dc:subject/>
  <dc:title>Markov Models</dc:title>
</cp:coreProperties>
</file>